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58E8-642C-4CC7-9E4D-71CE439B0E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3F8A-4B45-40C7-9BE9-5356A76F224D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2B90-05E6-4E7C-B91D-FB2E8220257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230A-5752-4C67-AAEE-2D6B5D91EC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F52D-830F-442D-AB48-5E12905AF28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0690-4E39-4221-ADE7-D47382560F2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4DEC-9646-47B2-B41D-520BC6D8E39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E273-3689-4196-AD31-8C5DFC43BFB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8B2-95B3-47ED-AF51-33E34DAC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7ED-0703-4C6E-8B5D-DC4220BC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37D-049F-4D5B-8A12-8510230E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717-ABE1-4DCC-A399-42C95C77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0C5-BC29-4208-8DCE-F6435D51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AB1-9539-4ECA-BBD4-F3FD62A4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857-6489-445A-958B-B300D19B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B47-C164-41AF-A48B-4E3C0668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3B8-532D-4CFD-B987-2822B6E4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6F5-17AD-4CFB-8CB5-08533D4E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BCF-18ED-49FB-B242-939884E4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FDF-A891-4091-9A1A-95A227A1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9EE8-1071-4C66-9E79-B888D891A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90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2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3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3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4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2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3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0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8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2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4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4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6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50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2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8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1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2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3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1-12-10T06:44:47Z</dcterms:modified>
  <cp:revision>176</cp:revision>
  <dc:subject/>
  <dc:title>Презентация PowerPoint</dc:title>
</cp:coreProperties>
</file>